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7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6.wmf" ContentType="image/x-wmf"/>
  <Override PartName="/ppt/media/image8.png" ContentType="image/png"/>
  <Override PartName="/ppt/media/image9.png" ContentType="image/png"/>
  <Override PartName="/ppt/media/image3.png" ContentType="image/png"/>
  <Override PartName="/ppt/media/image11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30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png" ContentType="image/png"/>
  <Override PartName="/ppt/media/image15.png" ContentType="image/png"/>
  <Override PartName="/ppt/media/image17.png" ContentType="image/png"/>
  <Override PartName="/ppt/media/image20.wmf" ContentType="image/x-wmf"/>
  <Override PartName="/ppt/media/image2.wmf" ContentType="image/x-wmf"/>
  <Override PartName="/ppt/media/chimes.wav" ContentType="audio/x-wav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wmf" ContentType="image/x-wmf"/>
  <Override PartName="/ppt/media/image24.wmf" ContentType="image/x-wmf"/>
  <Override PartName="/ppt/media/image2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  <p:custShowLst>
    <p:custShow name="Custom Show 1" id="0">
      <p:sldLst>
        <p:sld r:id="rId10"/>
        <p:sld r:id="rId11"/>
        <p:sld r:id="rId12"/>
        <p:sld r:id="rId13"/>
        <p:sld r:id="rId14"/>
        <p:sld r:id="rId15"/>
        <p:sld r:id="rId16"/>
        <p:sld r:id="rId17"/>
        <p:sld r:id="rId1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D3B1-3837-43B3-8D19-1108F1FD5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FD14-78A8-4C74-B4CD-3435B92F3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DBA6-A9A3-45C4-97FB-1EA1A8DB2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C743-3A76-4108-AA34-303162650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EB5C-4835-4FC7-BFF1-2C9613B07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90CD-019C-462C-B695-3FCD5AB84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C36B-AB95-45C9-A68C-FB8C7279E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89A4-10BA-4D84-8498-5CCED025A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8E57-C726-442F-947B-669EA79EE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C2B1-5B85-404D-B928-E887C8E5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DCC4-580C-415E-B8BA-C7576FE1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010D-BB52-4907-A05B-355B161F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B097A-57AE-44BF-949B-D69419F4D6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audio" Target="../media/chimes.wav"/><Relationship Id="rId2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25.wmf"/><Relationship Id="rId2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26.wmf"/><Relationship Id="rId2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27.wmf"/><Relationship Id="rId2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28.wmf"/><Relationship Id="rId2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29.wmf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30.wmf"/><Relationship Id="rId2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21.wmf"/><Relationship Id="rId2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22.wmf"/><Relationship Id="rId22" Type="http://schemas.openxmlformats.org/officeDocument/2006/relationships/image" Target="../media/image22.wmf"/><Relationship Id="rId2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23.wmf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24.wmf"/><Relationship Id="rId22" Type="http://schemas.openxmlformats.org/officeDocument/2006/relationships/audio" Target="../media/chimes.wav"/><Relationship Id="rId23" Type="http://schemas.openxmlformats.org/officeDocument/2006/relationships/audio" Target="../media/chimes.wav"/><Relationship Id="rId2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42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Object 4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Picture 5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6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7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8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Object 9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10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11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Object 12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" name="Group 13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53" name="Picture 14" descr="C:\Program Files\Microsoft Office\Clipart\Powerpnt\argntinf.wmf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5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6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7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18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19" descr="C:\Program Files\Microsoft Office\Clipart\Powerpnt\cubaf.wmf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20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21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22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23" descr="C:\Program Files\Microsoft Office\Clipart\Powerpnt\spainf.wmf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Text Box 24"/>
          <p:cNvSpPr/>
          <p:nvPr/>
        </p:nvSpPr>
        <p:spPr>
          <a:xfrm>
            <a:off x="2028240" y="1482840"/>
            <a:ext cx="510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 Verbo </a:t>
            </a:r>
            <a:r>
              <a:rPr b="0" lang="en-US" sz="4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1" lang="en-US" sz="4400" spc="-1" strike="noStrike" u="sng">
                <a:solidFill>
                  <a:srgbClr val="cc0000"/>
                </a:solidFill>
                <a:uFillTx/>
                <a:latin typeface="Comic Sans MS"/>
              </a:rPr>
              <a:t>GUSTAR</a:t>
            </a:r>
            <a:r>
              <a:rPr b="0" lang="en-US" sz="4400" spc="-1" strike="noStrike">
                <a:solidFill>
                  <a:srgbClr val="cc0000"/>
                </a:solidFill>
                <a:latin typeface="Comic Sans MS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5"/>
          <p:cNvSpPr/>
          <p:nvPr/>
        </p:nvSpPr>
        <p:spPr>
          <a:xfrm>
            <a:off x="784440" y="3564000"/>
            <a:ext cx="761508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 español </a:t>
            </a:r>
            <a:r>
              <a:rPr b="0" i="1" lang="en-US" sz="2800" spc="-1" strike="noStrike">
                <a:solidFill>
                  <a:srgbClr val="cc0000"/>
                </a:solidFill>
                <a:latin typeface="Comic Sans MS"/>
              </a:rPr>
              <a:t>gusta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ignifica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Comic Sans MS"/>
              </a:rPr>
              <a:t>to be pleasing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English, the equivalent is “to lik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Group 2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273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Object 4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6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7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8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Object 9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Picture 10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Picture 11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Object 12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3" name="Group 13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284" name="Picture 14" descr="C:\Program Files\Microsoft Office\Clipart\Powerpnt\argntinf.wmf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15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16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17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18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19" descr="C:\Program Files\Microsoft Office\Clipart\Powerpnt\cubaf.wmf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20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21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22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23" descr="C:\Program Files\Microsoft Office\Clipart\Powerpnt\spainf.wmf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4" name="Text Box 24"/>
          <p:cNvSpPr/>
          <p:nvPr/>
        </p:nvSpPr>
        <p:spPr>
          <a:xfrm>
            <a:off x="2514600" y="609480"/>
            <a:ext cx="411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ómo se dice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31"/>
          <p:cNvSpPr/>
          <p:nvPr/>
        </p:nvSpPr>
        <p:spPr>
          <a:xfrm>
            <a:off x="3195720" y="1935000"/>
            <a:ext cx="27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like coffee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Picture 32" descr="C:\Program Files\Microsoft Office\Clipart\Powerpnt\soup.wmf"/>
          <p:cNvPicPr/>
          <p:nvPr/>
        </p:nvPicPr>
        <p:blipFill>
          <a:blip r:embed="rId21"/>
          <a:stretch/>
        </p:blipFill>
        <p:spPr>
          <a:xfrm>
            <a:off x="7162920" y="2819520"/>
            <a:ext cx="1592280" cy="207648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33"/>
          <p:cNvSpPr/>
          <p:nvPr/>
        </p:nvSpPr>
        <p:spPr>
          <a:xfrm>
            <a:off x="2637720" y="5842080"/>
            <a:ext cx="39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Coffee is pleasing to m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34"/>
          <p:cNvSpPr/>
          <p:nvPr/>
        </p:nvSpPr>
        <p:spPr>
          <a:xfrm>
            <a:off x="3701520" y="3548160"/>
            <a:ext cx="152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el café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36"/>
          <p:cNvSpPr/>
          <p:nvPr/>
        </p:nvSpPr>
        <p:spPr>
          <a:xfrm>
            <a:off x="2188800" y="3548160"/>
            <a:ext cx="125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gu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37"/>
          <p:cNvSpPr/>
          <p:nvPr/>
        </p:nvSpPr>
        <p:spPr>
          <a:xfrm>
            <a:off x="1212120" y="3548160"/>
            <a:ext cx="77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50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Group 2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302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Object 4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5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Picture 6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Picture 7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Picture 8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Object 9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Picture 10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Picture 11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Object 12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2" name="Group 13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313" name="Picture 14" descr="C:\Program Files\Microsoft Office\Clipart\Powerpnt\argntinf.wmf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15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Picture 16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Picture 17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Picture 18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Picture 19" descr="C:\Program Files\Microsoft Office\Clipart\Powerpnt\cubaf.wmf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Picture 20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21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Picture 22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Picture 23" descr="C:\Program Files\Microsoft Office\Clipart\Powerpnt\spainf.wmf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3" name="Text Box 24"/>
          <p:cNvSpPr/>
          <p:nvPr/>
        </p:nvSpPr>
        <p:spPr>
          <a:xfrm>
            <a:off x="2514600" y="609480"/>
            <a:ext cx="411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ómo se dice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25"/>
          <p:cNvSpPr/>
          <p:nvPr/>
        </p:nvSpPr>
        <p:spPr>
          <a:xfrm>
            <a:off x="3103200" y="1935000"/>
            <a:ext cx="296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like car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27"/>
          <p:cNvSpPr/>
          <p:nvPr/>
        </p:nvSpPr>
        <p:spPr>
          <a:xfrm>
            <a:off x="2625480" y="5842080"/>
            <a:ext cx="39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Cars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Comic Sans MS"/>
              </a:rPr>
              <a:t>are pleasing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 to you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28"/>
          <p:cNvSpPr/>
          <p:nvPr/>
        </p:nvSpPr>
        <p:spPr>
          <a:xfrm>
            <a:off x="3628800" y="3548160"/>
            <a:ext cx="225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los coch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29"/>
          <p:cNvSpPr/>
          <p:nvPr/>
        </p:nvSpPr>
        <p:spPr>
          <a:xfrm>
            <a:off x="1945440" y="3548160"/>
            <a:ext cx="15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gusta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Comic Sans MS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30"/>
          <p:cNvSpPr/>
          <p:nvPr/>
        </p:nvSpPr>
        <p:spPr>
          <a:xfrm>
            <a:off x="1166040" y="3548160"/>
            <a:ext cx="63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Picture 31" descr="C:\Program Files\Microsoft Office\Clipart\Office\Car1.wmf"/>
          <p:cNvPicPr/>
          <p:nvPr/>
        </p:nvPicPr>
        <p:blipFill>
          <a:blip r:embed="rId21"/>
          <a:stretch/>
        </p:blipFill>
        <p:spPr>
          <a:xfrm>
            <a:off x="6629400" y="3200400"/>
            <a:ext cx="2239920" cy="12096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500"/>
                            </p:stCondLst>
                            <p:childTnLst>
                              <p:par>
                                <p:cTn id="29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2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331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Object 4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Picture 5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Picture 6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Picture 7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Picture 8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Object 9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10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Picture 11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Object 12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1" name="Group 13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342" name="Picture 14" descr="C:\Program Files\Microsoft Office\Clipart\Powerpnt\argntinf.wmf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Picture 15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16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17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18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Picture 19" descr="C:\Program Files\Microsoft Office\Clipart\Powerpnt\cubaf.wmf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Picture 20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Picture 21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22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Picture 23" descr="C:\Program Files\Microsoft Office\Clipart\Powerpnt\spainf.wmf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2" name="Text Box 24"/>
          <p:cNvSpPr/>
          <p:nvPr/>
        </p:nvSpPr>
        <p:spPr>
          <a:xfrm>
            <a:off x="2514600" y="609480"/>
            <a:ext cx="411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ómo se dice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25"/>
          <p:cNvSpPr/>
          <p:nvPr/>
        </p:nvSpPr>
        <p:spPr>
          <a:xfrm>
            <a:off x="2021760" y="1935000"/>
            <a:ext cx="513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doesn’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like to dance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26"/>
          <p:cNvSpPr/>
          <p:nvPr/>
        </p:nvSpPr>
        <p:spPr>
          <a:xfrm>
            <a:off x="2130480" y="5842080"/>
            <a:ext cx="494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To dance is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Comic Sans MS"/>
              </a:rPr>
              <a:t>not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 pleasing to him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27"/>
          <p:cNvSpPr/>
          <p:nvPr/>
        </p:nvSpPr>
        <p:spPr>
          <a:xfrm>
            <a:off x="6402960" y="3548160"/>
            <a:ext cx="137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bail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28"/>
          <p:cNvSpPr/>
          <p:nvPr/>
        </p:nvSpPr>
        <p:spPr>
          <a:xfrm>
            <a:off x="4812840" y="3548160"/>
            <a:ext cx="125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gu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29"/>
          <p:cNvSpPr/>
          <p:nvPr/>
        </p:nvSpPr>
        <p:spPr>
          <a:xfrm>
            <a:off x="3353040" y="3548160"/>
            <a:ext cx="117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00"/>
                </a:solidFill>
                <a:uFillTx/>
                <a:latin typeface="Comic Sans MS"/>
              </a:rPr>
              <a:t>No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 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Picture 31" descr="C:\Program Files\Microsoft Office\Clipart\Scrbeans\DANCING.WMF"/>
          <p:cNvPicPr/>
          <p:nvPr/>
        </p:nvPicPr>
        <p:blipFill>
          <a:blip r:embed="rId21"/>
          <a:stretch/>
        </p:blipFill>
        <p:spPr>
          <a:xfrm>
            <a:off x="457200" y="2819520"/>
            <a:ext cx="2209680" cy="2170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5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Group 2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360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Object 4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5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6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Picture 7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Picture 8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Object 9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Picture 10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11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Object 12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0" name="Group 13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371" name="Picture 14" descr="C:\Program Files\Microsoft Office\Clipart\Powerpnt\argntinf.wmf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Picture 15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3" name="Picture 16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17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5" name="Picture 18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6" name="Picture 19" descr="C:\Program Files\Microsoft Office\Clipart\Powerpnt\cubaf.wmf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Picture 20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Picture 21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Picture 22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23" descr="C:\Program Files\Microsoft Office\Clipart\Powerpnt\spainf.wmf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Text Box 24"/>
          <p:cNvSpPr/>
          <p:nvPr/>
        </p:nvSpPr>
        <p:spPr>
          <a:xfrm>
            <a:off x="2514600" y="609480"/>
            <a:ext cx="411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ómo se dice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25"/>
          <p:cNvSpPr/>
          <p:nvPr/>
        </p:nvSpPr>
        <p:spPr>
          <a:xfrm>
            <a:off x="2350080" y="1935000"/>
            <a:ext cx="447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like our teacher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26"/>
          <p:cNvSpPr/>
          <p:nvPr/>
        </p:nvSpPr>
        <p:spPr>
          <a:xfrm>
            <a:off x="2711520" y="5842080"/>
            <a:ext cx="37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Our teachers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Comic Sans MS"/>
              </a:rPr>
              <a:t>please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 us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27"/>
          <p:cNvSpPr/>
          <p:nvPr/>
        </p:nvSpPr>
        <p:spPr>
          <a:xfrm>
            <a:off x="6172200" y="3352680"/>
            <a:ext cx="2438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nuestros profeso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28"/>
          <p:cNvSpPr/>
          <p:nvPr/>
        </p:nvSpPr>
        <p:spPr>
          <a:xfrm>
            <a:off x="4607640" y="3548160"/>
            <a:ext cx="15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gusta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Comic Sans MS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29"/>
          <p:cNvSpPr/>
          <p:nvPr/>
        </p:nvSpPr>
        <p:spPr>
          <a:xfrm>
            <a:off x="3499560" y="3548160"/>
            <a:ext cx="93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Picture 31" descr="C:\Program Files\Microsoft Office\Clipart\Powerpnt\teacher.wmf"/>
          <p:cNvPicPr/>
          <p:nvPr/>
        </p:nvPicPr>
        <p:blipFill>
          <a:blip r:embed="rId21"/>
          <a:stretch/>
        </p:blipFill>
        <p:spPr>
          <a:xfrm>
            <a:off x="304920" y="2819520"/>
            <a:ext cx="2587680" cy="20192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50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8" name="Group 2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389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Object 0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Picture 5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2" name="Picture 6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Picture 7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8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" name="Object 1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Picture 10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Picture 11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8" name="Object 2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9" name="Group 13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400" name="Picture 14" descr="C:\Program Files\Microsoft Office\Clipart\Powerpnt\argntinf.wmf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1" name="Picture 15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Picture 16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" name="Picture 17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" name="Picture 18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Picture 19" descr="C:\Program Files\Microsoft Office\Clipart\Powerpnt\cubaf.wmf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" name="Picture 20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Picture 21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22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9" name="Picture 23" descr="C:\Program Files\Microsoft Office\Clipart\Powerpnt\spainf.wmf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0" name="Text Box 24"/>
          <p:cNvSpPr/>
          <p:nvPr/>
        </p:nvSpPr>
        <p:spPr>
          <a:xfrm>
            <a:off x="2514600" y="609480"/>
            <a:ext cx="411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ómo se dice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25"/>
          <p:cNvSpPr/>
          <p:nvPr/>
        </p:nvSpPr>
        <p:spPr>
          <a:xfrm>
            <a:off x="500040" y="1935000"/>
            <a:ext cx="820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(guys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don’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like to go to the movie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26"/>
          <p:cNvSpPr/>
          <p:nvPr/>
        </p:nvSpPr>
        <p:spPr>
          <a:xfrm>
            <a:off x="914040" y="5842080"/>
            <a:ext cx="73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To go to the movies is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Comic Sans MS"/>
              </a:rPr>
              <a:t>not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 pleasing to you (guys)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 Box 27"/>
          <p:cNvSpPr/>
          <p:nvPr/>
        </p:nvSpPr>
        <p:spPr>
          <a:xfrm>
            <a:off x="3809880" y="3548160"/>
            <a:ext cx="188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ir al c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28"/>
          <p:cNvSpPr/>
          <p:nvPr/>
        </p:nvSpPr>
        <p:spPr>
          <a:xfrm>
            <a:off x="2198160" y="3548160"/>
            <a:ext cx="125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gu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29"/>
          <p:cNvSpPr/>
          <p:nvPr/>
        </p:nvSpPr>
        <p:spPr>
          <a:xfrm>
            <a:off x="596160" y="3548160"/>
            <a:ext cx="128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00"/>
                </a:solidFill>
                <a:uFillTx/>
                <a:latin typeface="Comic Sans MS"/>
              </a:rPr>
              <a:t>No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 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Picture 31" descr="c:\Program Files\Common Files\Microsoft Shared\Clipart\cagcat50\en00500_.wmf"/>
          <p:cNvPicPr/>
          <p:nvPr/>
        </p:nvPicPr>
        <p:blipFill>
          <a:blip r:embed="rId21"/>
          <a:stretch/>
        </p:blipFill>
        <p:spPr>
          <a:xfrm>
            <a:off x="6400800" y="3048120"/>
            <a:ext cx="2293920" cy="21654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500"/>
                            </p:stCondLst>
                            <p:childTnLst>
                              <p:par>
                                <p:cTn id="39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Group 2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418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" name="Object 0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5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6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7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" name="Picture 8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4" name="Object 1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" name="Picture 10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11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Object 2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8" name="Group 13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429" name="Picture 14" descr="C:\Program Files\Microsoft Office\Clipart\Powerpnt\argntinf.wmf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0" name="Picture 15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1" name="Picture 16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17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3" name="Picture 18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" name="Picture 19" descr="C:\Program Files\Microsoft Office\Clipart\Powerpnt\cubaf.wmf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Picture 20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Picture 21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" name="Picture 22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23" descr="C:\Program Files\Microsoft Office\Clipart\Powerpnt\spainf.wmf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Text Box 24"/>
          <p:cNvSpPr/>
          <p:nvPr/>
        </p:nvSpPr>
        <p:spPr>
          <a:xfrm>
            <a:off x="2514600" y="609480"/>
            <a:ext cx="411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ómo se dice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25"/>
          <p:cNvSpPr/>
          <p:nvPr/>
        </p:nvSpPr>
        <p:spPr>
          <a:xfrm>
            <a:off x="1540440" y="1935000"/>
            <a:ext cx="610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y like history and spanish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26"/>
          <p:cNvSpPr/>
          <p:nvPr/>
        </p:nvSpPr>
        <p:spPr>
          <a:xfrm>
            <a:off x="1409040" y="5842080"/>
            <a:ext cx="639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History and Spanish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Comic Sans MS"/>
              </a:rPr>
              <a:t>are pleasing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 to them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27"/>
          <p:cNvSpPr/>
          <p:nvPr/>
        </p:nvSpPr>
        <p:spPr>
          <a:xfrm>
            <a:off x="6172200" y="3352680"/>
            <a:ext cx="2598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la historia y el españ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28"/>
          <p:cNvSpPr/>
          <p:nvPr/>
        </p:nvSpPr>
        <p:spPr>
          <a:xfrm>
            <a:off x="4683600" y="3548160"/>
            <a:ext cx="15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gusta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Comic Sans MS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29"/>
          <p:cNvSpPr/>
          <p:nvPr/>
        </p:nvSpPr>
        <p:spPr>
          <a:xfrm>
            <a:off x="3510000" y="3548160"/>
            <a:ext cx="8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Picture 31" descr="c:\Program Files\Common Files\Microsoft Shared\Clipart\cagcat50\bs00554_.wmf"/>
          <p:cNvPicPr/>
          <p:nvPr/>
        </p:nvPicPr>
        <p:blipFill>
          <a:blip r:embed="rId21"/>
          <a:stretch/>
        </p:blipFill>
        <p:spPr>
          <a:xfrm>
            <a:off x="457200" y="2971800"/>
            <a:ext cx="2216160" cy="19335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500"/>
                            </p:stCondLst>
                            <p:childTnLst>
                              <p:par>
                                <p:cTn id="42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6" name="Group 2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447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8" name="Object 0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9" name="Picture 5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0" name="Picture 6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1" name="Picture 7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8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3" name="Object 1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Picture 10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" name="Picture 11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6" name="Object 2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7" name="Group 13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458" name="Picture 14" descr="C:\Program Files\Microsoft Office\Clipart\Powerpnt\argntinf.wmf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9" name="Picture 15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0" name="Picture 16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1" name="Picture 17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2" name="Picture 18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3" name="Picture 19" descr="C:\Program Files\Microsoft Office\Clipart\Powerpnt\cubaf.wmf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20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" name="Picture 21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" name="Picture 22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Picture 23" descr="C:\Program Files\Microsoft Office\Clipart\Powerpnt\spainf.wmf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8" name="Text Box 24"/>
          <p:cNvSpPr/>
          <p:nvPr/>
        </p:nvSpPr>
        <p:spPr>
          <a:xfrm>
            <a:off x="990720" y="457200"/>
            <a:ext cx="7086600" cy="76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0000"/>
                </a:solidFill>
                <a:latin typeface="Comic Sans MS"/>
              </a:rPr>
              <a:t>¿</a:t>
            </a:r>
            <a:r>
              <a:rPr b="0" i="1" lang="en-US" sz="4400" spc="-1" strike="noStrike" u="sng">
                <a:solidFill>
                  <a:srgbClr val="cc0000"/>
                </a:solidFill>
                <a:uFillTx/>
                <a:latin typeface="Comic Sans MS"/>
              </a:rPr>
              <a:t>Cómo se dice en español</a:t>
            </a:r>
            <a:r>
              <a:rPr b="0" i="1" lang="en-US" sz="4400" spc="-1" strike="noStrike">
                <a:solidFill>
                  <a:srgbClr val="cc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31"/>
          <p:cNvSpPr/>
          <p:nvPr/>
        </p:nvSpPr>
        <p:spPr>
          <a:xfrm>
            <a:off x="2008800" y="1569960"/>
            <a:ext cx="51627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like to stud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ena likes to watch televi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don’t like to do  hom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rlos and Miguel like c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 you guys like to look at phot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like to go shopping, righ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32"/>
          <p:cNvSpPr/>
          <p:nvPr/>
        </p:nvSpPr>
        <p:spPr>
          <a:xfrm>
            <a:off x="3542760" y="1946160"/>
            <a:ext cx="20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Comic Sans MS"/>
              </a:rPr>
              <a:t>Me gusta estudi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33"/>
          <p:cNvSpPr/>
          <p:nvPr/>
        </p:nvSpPr>
        <p:spPr>
          <a:xfrm>
            <a:off x="2768040" y="2743200"/>
            <a:ext cx="360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Comic Sans MS"/>
              </a:rPr>
              <a:t>(A Elena) le gusta ver la televis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34"/>
          <p:cNvSpPr/>
          <p:nvPr/>
        </p:nvSpPr>
        <p:spPr>
          <a:xfrm>
            <a:off x="3035880" y="3443400"/>
            <a:ext cx="305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Comic Sans MS"/>
              </a:rPr>
              <a:t>No nos gusta hacer la tare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35"/>
          <p:cNvSpPr/>
          <p:nvPr/>
        </p:nvSpPr>
        <p:spPr>
          <a:xfrm>
            <a:off x="2329920" y="4191120"/>
            <a:ext cx="448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Comic Sans MS"/>
              </a:rPr>
              <a:t>(A Carlos y a Miguel) les gustan los coch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36"/>
          <p:cNvSpPr/>
          <p:nvPr/>
        </p:nvSpPr>
        <p:spPr>
          <a:xfrm>
            <a:off x="3094200" y="495288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Comic Sans MS"/>
              </a:rPr>
              <a:t>¿(Os) les gusta mirar foto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37"/>
          <p:cNvSpPr/>
          <p:nvPr/>
        </p:nvSpPr>
        <p:spPr>
          <a:xfrm>
            <a:off x="2806560" y="5638680"/>
            <a:ext cx="352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Comic Sans MS"/>
              </a:rPr>
              <a:t>Te gusta ir de compras, ¿verda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2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66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Object 4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5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Picture 6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Picture 7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Picture 8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Object 9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Picture 10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11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Object 12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" name="Group 13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77" name="Picture 14" descr="C:\Program Files\Microsoft Office\Clipart\Powerpnt\argntinf.wmf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15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16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17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18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19" descr="C:\Program Files\Microsoft Office\Clipart\Powerpnt\cubaf.wmf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0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21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Picture 22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23" descr="C:\Program Files\Microsoft Office\Clipart\Powerpnt\spainf.wmf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Text Box 26"/>
          <p:cNvSpPr/>
          <p:nvPr/>
        </p:nvSpPr>
        <p:spPr>
          <a:xfrm>
            <a:off x="852840" y="1447920"/>
            <a:ext cx="350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r ejempl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27"/>
          <p:cNvSpPr/>
          <p:nvPr/>
        </p:nvSpPr>
        <p:spPr>
          <a:xfrm>
            <a:off x="875160" y="3564000"/>
            <a:ext cx="7041600" cy="18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English we say:   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“I like  Spanish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 español decimos:   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“To me, Spanis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                         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is pleasing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28" descr="c:\Program Files\Microsoft Office\Clipart\standard\stddir1\bd05090_.wmf"/>
          <p:cNvPicPr/>
          <p:nvPr/>
        </p:nvPicPr>
        <p:blipFill>
          <a:blip r:embed="rId21"/>
          <a:stretch/>
        </p:blipFill>
        <p:spPr>
          <a:xfrm>
            <a:off x="6095880" y="762120"/>
            <a:ext cx="2513160" cy="22716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91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Object 4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5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6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7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8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Object 9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10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11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Object 12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" name="Group 13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102" name="Picture 14" descr="C:\Program Files\Microsoft Office\Clipart\Powerpnt\argntinf.wmf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15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16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17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18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19" descr="C:\Program Files\Microsoft Office\Clipart\Powerpnt\cubaf.wmf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20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21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22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23" descr="C:\Program Files\Microsoft Office\Clipart\Powerpnt\spainf.wmf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" name="Text Box 27"/>
          <p:cNvSpPr/>
          <p:nvPr/>
        </p:nvSpPr>
        <p:spPr>
          <a:xfrm>
            <a:off x="2614320" y="822240"/>
            <a:ext cx="3931200" cy="703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0000"/>
                </a:solidFill>
                <a:uFillTx/>
                <a:latin typeface="Comic Sans MS"/>
              </a:rPr>
              <a:t>I like the beach</a:t>
            </a:r>
            <a:r>
              <a:rPr b="0" lang="en-US" sz="4000" spc="-1" strike="noStrike">
                <a:solidFill>
                  <a:srgbClr val="cc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8"/>
          <p:cNvSpPr/>
          <p:nvPr/>
        </p:nvSpPr>
        <p:spPr>
          <a:xfrm>
            <a:off x="822240" y="2712960"/>
            <a:ext cx="3063960" cy="31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Englis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I”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 su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like”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 ve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the beach”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rect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9"/>
          <p:cNvSpPr/>
          <p:nvPr/>
        </p:nvSpPr>
        <p:spPr>
          <a:xfrm>
            <a:off x="5165640" y="2733840"/>
            <a:ext cx="3292560" cy="38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 españo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the beach”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to please”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e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me”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 indirect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30" descr="c:\Office2000\Clipart\Pub60Cor\pe00542_.wmf"/>
          <p:cNvPicPr/>
          <p:nvPr/>
        </p:nvPicPr>
        <p:blipFill>
          <a:blip r:embed="rId21"/>
          <a:stretch/>
        </p:blipFill>
        <p:spPr>
          <a:xfrm>
            <a:off x="457200" y="609480"/>
            <a:ext cx="1407960" cy="1430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1" descr="c:\Office2000\Clipart\Pub60Cor\pe00542_.wmf"/>
          <p:cNvPicPr/>
          <p:nvPr/>
        </p:nvPicPr>
        <p:blipFill>
          <a:blip r:embed="rId22"/>
          <a:stretch/>
        </p:blipFill>
        <p:spPr>
          <a:xfrm>
            <a:off x="7202520" y="609480"/>
            <a:ext cx="1407960" cy="14302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118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Object 4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5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6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7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8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Object 9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10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1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Object 12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8" name="Group 13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129" name="Picture 14" descr="C:\Program Files\Microsoft Office\Clipart\Powerpnt\argntinf.wmf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15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16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17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18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19" descr="C:\Program Files\Microsoft Office\Clipart\Powerpnt\cubaf.wmf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20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21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22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23" descr="C:\Program Files\Microsoft Office\Clipart\Powerpnt\spainf.wmf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Text Box 27"/>
          <p:cNvSpPr/>
          <p:nvPr/>
        </p:nvSpPr>
        <p:spPr>
          <a:xfrm>
            <a:off x="789840" y="380880"/>
            <a:ext cx="3640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 Español…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28"/>
          <p:cNvSpPr/>
          <p:nvPr/>
        </p:nvSpPr>
        <p:spPr>
          <a:xfrm>
            <a:off x="1065960" y="1219320"/>
            <a:ext cx="663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word order is actually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“backwards”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30"/>
          <p:cNvSpPr/>
          <p:nvPr/>
        </p:nvSpPr>
        <p:spPr>
          <a:xfrm>
            <a:off x="928080" y="1981080"/>
            <a:ext cx="7603920" cy="28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indirect object comes first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n the verb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gu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ally the subject of the verb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la play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ke it negative by adding  “no” at the begin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31" descr="c:\Office2000\Clipart\Pub60Cor\na01069_.wmf"/>
          <p:cNvPicPr/>
          <p:nvPr/>
        </p:nvPicPr>
        <p:blipFill>
          <a:blip r:embed="rId21"/>
          <a:stretch/>
        </p:blipFill>
        <p:spPr>
          <a:xfrm>
            <a:off x="3657600" y="5029200"/>
            <a:ext cx="1835280" cy="1306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2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144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Object 4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5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Object 9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Object 12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4" name="Group 13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155" name="Picture 14" descr="C:\Program Files\Microsoft Office\Clipart\Powerpnt\argntinf.wmf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15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16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17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18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19" descr="C:\Program Files\Microsoft Office\Clipart\Powerpnt\cubaf.wmf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22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23" descr="C:\Program Files\Microsoft Office\Clipart\Powerpnt\spainf.wmf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Text Box 24"/>
          <p:cNvSpPr/>
          <p:nvPr/>
        </p:nvSpPr>
        <p:spPr>
          <a:xfrm>
            <a:off x="1217880" y="762120"/>
            <a:ext cx="673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Who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is doing the “liking”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25"/>
          <p:cNvSpPr/>
          <p:nvPr/>
        </p:nvSpPr>
        <p:spPr>
          <a:xfrm>
            <a:off x="2333160" y="2529000"/>
            <a:ext cx="446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direct Object Pronou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Group 30"/>
          <p:cNvGrpSpPr/>
          <p:nvPr/>
        </p:nvGrpSpPr>
        <p:grpSpPr>
          <a:xfrm>
            <a:off x="2985120" y="3530520"/>
            <a:ext cx="2935800" cy="2531160"/>
            <a:chOff x="2985120" y="3530520"/>
            <a:chExt cx="2935800" cy="2531160"/>
          </a:xfrm>
        </p:grpSpPr>
        <p:sp>
          <p:nvSpPr>
            <p:cNvPr id="168" name="Text Box 27"/>
            <p:cNvSpPr/>
            <p:nvPr/>
          </p:nvSpPr>
          <p:spPr>
            <a:xfrm>
              <a:off x="2985120" y="3530520"/>
              <a:ext cx="740160" cy="25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c0000"/>
                  </a:solidFill>
                  <a:latin typeface="Comic Sans MS"/>
                </a:rPr>
                <a:t>m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c0000"/>
                  </a:solidFill>
                  <a:latin typeface="Comic Sans MS"/>
                </a:rPr>
                <a:t>t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c0000"/>
                  </a:solidFill>
                  <a:latin typeface="Comic Sans MS"/>
                </a:rPr>
                <a:t>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Text Box 29"/>
            <p:cNvSpPr/>
            <p:nvPr/>
          </p:nvSpPr>
          <p:spPr>
            <a:xfrm>
              <a:off x="5100120" y="3530520"/>
              <a:ext cx="820800" cy="25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c0000"/>
                  </a:solidFill>
                  <a:latin typeface="Comic Sans MS"/>
                </a:rPr>
                <a:t>no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c0000"/>
                  </a:solidFill>
                  <a:latin typeface="Comic Sans MS"/>
                </a:rPr>
                <a:t>o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c0000"/>
                  </a:solidFill>
                  <a:latin typeface="Comic Sans MS"/>
                </a:rPr>
                <a:t>l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dissolv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2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171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Object 4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5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6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7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8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Object 9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10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11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Object 12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1" name="Group 13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182" name="Picture 14" descr="C:\Program Files\Microsoft Office\Clipart\Powerpnt\argntinf.wmf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15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Picture 16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8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19" descr="C:\Program Files\Microsoft Office\Clipart\Powerpnt\cubaf.wmf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20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21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Picture 22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Picture 23" descr="C:\Program Files\Microsoft Office\Clipart\Powerpnt\spainf.wmf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2" name="Text Box 24"/>
          <p:cNvSpPr/>
          <p:nvPr/>
        </p:nvSpPr>
        <p:spPr>
          <a:xfrm>
            <a:off x="914400" y="1066680"/>
            <a:ext cx="7483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i="1" lang="en-US" sz="4400" spc="-1" strike="noStrike">
                <a:solidFill>
                  <a:srgbClr val="cc0000"/>
                </a:solidFill>
                <a:latin typeface="Comic Sans MS"/>
              </a:rPr>
              <a:t>Gusta”</a:t>
            </a:r>
            <a:r>
              <a:rPr b="0" i="1" lang="en-US" sz="44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singular nouns  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infini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6"/>
          <p:cNvSpPr/>
          <p:nvPr/>
        </p:nvSpPr>
        <p:spPr>
          <a:xfrm>
            <a:off x="914400" y="3048120"/>
            <a:ext cx="748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i="1" lang="en-US" sz="4400" spc="-1" strike="noStrike">
                <a:solidFill>
                  <a:srgbClr val="cc0000"/>
                </a:solidFill>
                <a:latin typeface="Comic Sans MS"/>
              </a:rPr>
              <a:t>Gustan”</a:t>
            </a:r>
            <a:r>
              <a:rPr b="0" i="1" lang="en-US" sz="44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plural nouns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27" descr="c:\Program Files\Common Files\Microsoft Shared\Clipart\cagcat50\bs00559_.wmf"/>
          <p:cNvPicPr/>
          <p:nvPr/>
        </p:nvPicPr>
        <p:blipFill>
          <a:blip r:embed="rId21"/>
          <a:stretch/>
        </p:blipFill>
        <p:spPr>
          <a:xfrm>
            <a:off x="3124080" y="4495680"/>
            <a:ext cx="2895840" cy="1643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14" presetSubtype="5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oup 1026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196" name="Picture 1027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Object 1028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1029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1030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1031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1032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Object 1033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1034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1035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Object 1036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6" name="Group 1037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207" name="Picture 1038" descr="C:\Program Files\Microsoft Office\Clipart\Powerpnt\argntinf.wmf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1039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Picture 1040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Picture 1041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1042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1043" descr="C:\Program Files\Microsoft Office\Clipart\Powerpnt\cubaf.wmf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Picture 1044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Picture 1045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Picture 1046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Picture 1047" descr="C:\Program Files\Microsoft Office\Clipart\Powerpnt\spainf.wmf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7" name="Text Box 1048"/>
          <p:cNvSpPr/>
          <p:nvPr/>
        </p:nvSpPr>
        <p:spPr>
          <a:xfrm>
            <a:off x="536040" y="533520"/>
            <a:ext cx="57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Frases de clarificación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053"/>
          <p:cNvSpPr/>
          <p:nvPr/>
        </p:nvSpPr>
        <p:spPr>
          <a:xfrm>
            <a:off x="887040" y="2330280"/>
            <a:ext cx="383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cc0000"/>
                </a:solidFill>
                <a:latin typeface="Comic Sans MS"/>
              </a:rPr>
              <a:t>Le gusta nadar.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055"/>
          <p:cNvSpPr/>
          <p:nvPr/>
        </p:nvSpPr>
        <p:spPr>
          <a:xfrm>
            <a:off x="5402520" y="1582560"/>
            <a:ext cx="3126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 likes to sw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e likes to sw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like to sw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056"/>
          <p:cNvSpPr/>
          <p:nvPr/>
        </p:nvSpPr>
        <p:spPr>
          <a:xfrm>
            <a:off x="590400" y="4768920"/>
            <a:ext cx="442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cc0000"/>
                </a:solidFill>
                <a:latin typeface="Comic Sans MS"/>
              </a:rPr>
              <a:t>Les gusta la playa.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057"/>
          <p:cNvSpPr/>
          <p:nvPr/>
        </p:nvSpPr>
        <p:spPr>
          <a:xfrm>
            <a:off x="5428800" y="4494240"/>
            <a:ext cx="347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y like the bea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like the bea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1026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223" name="Picture 1027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Object 1024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1029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Picture 1030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Picture 1031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1032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Object 1025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1034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1035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Object 1026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3" name="Group 1037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234" name="Picture 1038" descr="C:\Program Files\Microsoft Office\Clipart\Powerpnt\argntinf.wmf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1039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1040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1041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1042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1043" descr="C:\Program Files\Microsoft Office\Clipart\Powerpnt\cubaf.wmf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1044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1045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1046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Picture 1047" descr="C:\Program Files\Microsoft Office\Clipart\Powerpnt\spainf.wmf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4" name="Text Box 1048"/>
          <p:cNvSpPr/>
          <p:nvPr/>
        </p:nvSpPr>
        <p:spPr>
          <a:xfrm>
            <a:off x="1669320" y="533520"/>
            <a:ext cx="57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Frases de clarificación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053"/>
          <p:cNvSpPr/>
          <p:nvPr/>
        </p:nvSpPr>
        <p:spPr>
          <a:xfrm>
            <a:off x="349920" y="1600200"/>
            <a:ext cx="4137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M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m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é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U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 Rober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 Lol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 tu herman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1054"/>
          <p:cNvSpPr/>
          <p:nvPr/>
        </p:nvSpPr>
        <p:spPr>
          <a:xfrm>
            <a:off x="4800600" y="1600200"/>
            <a:ext cx="4038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No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O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v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L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el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U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 Roberto y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a Lu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 Lola y a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Carm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 mis amig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4500"/>
                            </p:stCondLst>
                            <p:childTnLst>
                              <p:par>
                                <p:cTn id="201" nodeType="afterEffect" fill="hold" presetClass="entr" presetID="15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Group 2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248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Object 4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Picture 5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Picture 6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Picture 7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Picture 8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Object 9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Picture 10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Picture 11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Object 12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8" name="Group 13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259" name="Picture 14" descr="C:\Program Files\Microsoft Office\Clipart\Powerpnt\argntinf.wmf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15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16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17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18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19" descr="C:\Program Files\Microsoft Office\Clipart\Powerpnt\cubaf.wmf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20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21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22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23" descr="C:\Program Files\Microsoft Office\Clipart\Powerpnt\spainf.wmf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9" name="Text Box 26"/>
          <p:cNvSpPr/>
          <p:nvPr/>
        </p:nvSpPr>
        <p:spPr>
          <a:xfrm>
            <a:off x="60120" y="1181160"/>
            <a:ext cx="4586760" cy="444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Comic Sans MS"/>
              </a:rPr>
              <a:t>Me gusta… / Me gustan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Comic Sans MS"/>
              </a:rPr>
              <a:t>Te gusta… / Te gustan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Comic Sans MS"/>
              </a:rPr>
              <a:t>Le gusta… / Le gustan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Comic Sans MS"/>
              </a:rPr>
              <a:t>Nos gusta… / Nos gustan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Comic Sans MS"/>
              </a:rPr>
              <a:t>Os gusta… / Os gustan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Comic Sans MS"/>
              </a:rPr>
              <a:t>Les gusta… / Les gustan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5470560" y="1181160"/>
            <a:ext cx="357768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 like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You like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He / she / You like(s)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We like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You guys like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ey / you like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4711680" y="3092400"/>
            <a:ext cx="442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Comic Sans MS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5T02:15:13Z</dcterms:created>
  <dc:creator>Thomas and Jennifer Duggan</dc:creator>
  <dc:description/>
  <dc:language>en-US</dc:language>
  <cp:lastModifiedBy> </cp:lastModifiedBy>
  <dcterms:modified xsi:type="dcterms:W3CDTF">2011-12-15T21:04:32Z</dcterms:modified>
  <cp:revision>494</cp:revision>
  <dc:subject/>
  <dc:title>PowerPoint Presentation</dc:title>
</cp:coreProperties>
</file>